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wmf" ContentType="image/x-wmf"/>
  <Override PartName="/ppt/media/image23.jpeg" ContentType="image/jpeg"/>
  <Override PartName="/ppt/media/image26.png" ContentType="image/png"/>
  <Override PartName="/ppt/media/image3.png" ContentType="image/png"/>
  <Override PartName="/ppt/media/image25.png" ContentType="image/png"/>
  <Override PartName="/ppt/media/image4.jpeg" ContentType="image/jpeg"/>
  <Override PartName="/ppt/media/image6.jpeg" ContentType="image/jpeg"/>
  <Override PartName="/ppt/media/image37.wmf" ContentType="image/x-wmf"/>
  <Override PartName="/ppt/media/image30.jpeg" ContentType="image/jpeg"/>
  <Override PartName="/ppt/media/image35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3.wmf" ContentType="image/x-wmf"/>
  <Override PartName="/ppt/media/image12.jpeg" ContentType="image/jpeg"/>
  <Override PartName="/ppt/media/image13.png" ContentType="image/png"/>
  <Override PartName="/ppt/media/image45.wmf" ContentType="image/x-wmf"/>
  <Override PartName="/ppt/media/image34.wmf" ContentType="image/x-wmf"/>
  <Override PartName="/ppt/media/image46.wmf" ContentType="image/x-wmf"/>
  <Override PartName="/ppt/media/image36.png" ContentType="image/png"/>
  <Override PartName="/ppt/media/image47.wmf" ContentType="image/x-wmf"/>
  <Override PartName="/ppt/media/image48.wmf" ContentType="image/x-wmf"/>
  <Override PartName="/ppt/media/image10.jpeg" ContentType="image/jpeg"/>
  <Override PartName="/ppt/media/image5.png" ContentType="image/png"/>
  <Override PartName="/ppt/media/image11.png" ContentType="image/png"/>
  <Override PartName="/ppt/media/image29.wmf" ContentType="image/x-wmf"/>
  <Override PartName="/ppt/media/image28.png" ContentType="image/png"/>
  <Override PartName="/ppt/media/image31.wmf" ContentType="image/x-wmf"/>
  <Override PartName="/ppt/media/image38.jpeg" ContentType="image/jpeg"/>
  <Override PartName="/ppt/media/image9.wmf" ContentType="image/x-wmf"/>
  <Override PartName="/ppt/media/image39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41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144-C776-45E1-BBA8-F287BB79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A5F-B6F4-4D5F-837E-7336F9DE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455-E52A-444E-AC4A-F4A85402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C24-988A-41F9-9B47-F1EA536F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8FA1-E12F-443C-94A4-DB85DAA4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303D-F238-46E8-A80C-5DC69752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B9D1-AEAC-4DEA-870D-A71E89B6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6AF9-0452-4DA3-A08F-681BE237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2A86-BB4D-4DEE-AE89-5E11CAAB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C10A-BC99-4AA9-8E7F-F1A98187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F1BB-A7A0-4527-B37F-0D2B3024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E34-81F5-4D1A-9864-76DCCDAF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5C82-DE0E-4154-AA01-02D96E2C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91BA-FA34-417D-A6DA-7B9F045F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9148-D93B-4A49-81AF-9E824C26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A347-E4FD-49C1-8AAB-DF15025D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F76A-B4E9-4703-8153-EBCD7CBA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193-9C14-4C6A-BB5E-639B1C43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5A7-C5D5-4ABC-8101-CE1D15C1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693-0BBC-4E3F-83C6-0239D819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943-1853-4490-8E33-57397A8B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09D-0EF5-49D6-BDBB-9CEA8EF6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0E8-923C-40E0-9B9B-92B2BC7B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E0C-B079-4875-A19E-2347570F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69B0-027B-46E3-A874-F7131E08FF4F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6C5B-0F3B-456C-8E7B-0C9366EAD14F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3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.png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.png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.png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3.png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hyperlink" Target="http://micro.magnet.fsu.edu/electromag/java/rutherford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Structure of the Ato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877000"/>
            <a:ext cx="9144000" cy="64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2 – VCE Chemist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Problems with Rutherford’s Model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798984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 Physics, experiments showed that particles which are accelerating lose energy in the form of radiation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f this was the case, the electrons would lose energy and be drawn into the nucleus in a fraction of a second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radiated colours given off by moving particles can be seen using a spectroscope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iels Bohr’s experiments, using the emission spectrum, concluded that electrons must not be giving off energy continuously as the spectrum was not continuous.</a:t>
            </a:r>
            <a:r>
              <a:rPr b="1" lang="en-A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411280" y="4149720"/>
            <a:ext cx="357048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56360" y="4005360"/>
            <a:ext cx="2166840" cy="2635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79280" y="4941720"/>
            <a:ext cx="2159280" cy="508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Bohr Model of the Atom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76520"/>
            <a:ext cx="79898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hr agreed with Rutherford, but differed in the idea of electron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hr concluded that electron position effected their amounts of energy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rther an electron from the nucleus the greater the amounts of energy they poss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3168720" cy="2622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8172360" y="14436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500720" y="3860640"/>
            <a:ext cx="360036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Electron Shells - Boh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0280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called the different orbits ‘shells’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ells are called K,L,M,N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s fill the lower shells and progress further from the nucleu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electrons held by each shell is equal to 2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=number of shell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normal laboratory conditions, the electrons are in their ground stat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748980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Explaining Spectra using Bohr’s Model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76520"/>
            <a:ext cx="799128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hr linked the spectra of elements and the concept of level jumping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electrons are heated they are able to jump to a higher level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then return quickly to their ground state which releases photons (light energy)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me tests can be used to view the release of photo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132000" y="4437000"/>
            <a:ext cx="3229200" cy="2081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588000" y="4437000"/>
            <a:ext cx="209412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316720" cy="4895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59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Forming an Emission Spectrum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Electron Configura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1629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arrangement of electrons in their shells is termed the electron configura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720072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pectral Line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7458120" cy="3824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6920" y="5877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– An electron moves from level 5 to 2. There are 6 possible moves for the electron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2.2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424720" cy="4848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7 on P. 30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732720" y="400536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Atomic Numb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676160"/>
            <a:ext cx="849600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protons is unique to each eleme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ic number therefore is the number of protons prese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ic number has the symbol Z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are arranged on the periodic table in increasing atomic size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ment has equal number of protons and electrons – therefore being neutrally charge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number (A) will be studied next chapter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3267000" cy="1647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211640" y="4437000"/>
            <a:ext cx="4248000" cy="1630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Problems with Bohr’s Model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76520"/>
            <a:ext cx="7989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echnology improved, the spectral analysis of Bohr’s model was questione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such as; atoms don’t have colour, electrons aren’t visible and move at the speed of light, atoms can’t be drawn to scale, the nucleus contains protons and neutrons, the atom is spheric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athode Ray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48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ientists such as Michael Faraday, Heinrich Geissler and William Crookes (See picture) used electric current in a tube to produce a mysterious glow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tube is called a Crookes tube (See diagram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tube has a cathode (negative electrode) and an anode (positive electrode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glow was a result of cathode rays. Light was travelling from the negative to the positive terminal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periments showed that the particles travelled in straight lines unless subjected to electrical or magnetic force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93080" y="3789360"/>
            <a:ext cx="1728720" cy="256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3313080" cy="1193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435640" y="3789360"/>
            <a:ext cx="1604880" cy="2376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364000" y="1700280"/>
            <a:ext cx="3456000" cy="194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96000" y="5877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aday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67640" y="630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oke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fd293"/>
                </a:solidFill>
                <a:latin typeface="Arial Black"/>
              </a:rPr>
              <a:t>The Scr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ö</a:t>
            </a:r>
            <a:r>
              <a:rPr b="0" lang="en-AU" sz="4000" spc="-1" strike="noStrike">
                <a:solidFill>
                  <a:srgbClr val="dfd293"/>
                </a:solidFill>
                <a:latin typeface="Arial Black"/>
              </a:rPr>
              <a:t>dinger Model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46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ctral analysis of elements suggested that electron shells don’t have the same amounts of energy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nger called for sub-shell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hell is divided into subshells (also called sub-energy levels) - regions within a shell that have a similar amount of energ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have characteristic shapes and different amounts of energ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&lt; p &lt; d &lt; f &lt; 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 = number of subshell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Sharp (s) =2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Principal (p) = 6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Diffuse (d) = 10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ine (f) = 1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1462320" cy="1900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03640" y="3500280"/>
            <a:ext cx="352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Examp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– 2,8,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– 2,8,8,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659640" y="1413000"/>
            <a:ext cx="22842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fd293"/>
                </a:solidFill>
                <a:latin typeface="Arial Black"/>
              </a:rPr>
              <a:t>The Subshell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7993080" cy="4859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fd293"/>
                </a:solidFill>
                <a:latin typeface="Arial Black"/>
              </a:rPr>
              <a:t>Atomic Orbital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5905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ectrons are not confined to circular orbit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stead they move in regions of space called atomic orbital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shell is made up of orbital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rbital is the region of space in which the electron travels within the subshell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bitals are assigned a letter according to the subshell it is in   (s, p, d, f, g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can be: 1 s orbital, 3 p orbitals, 5 d orbitals, 7 f orbitals, 9 g orbital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7705800" cy="2232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6372360" y="1341360"/>
            <a:ext cx="259848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489800" cy="5667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2283120" cy="2339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dfd293"/>
                </a:solidFill>
                <a:latin typeface="Arial Black"/>
              </a:rPr>
              <a:t>The Energies of Subshell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203640" y="1628640"/>
            <a:ext cx="5400720" cy="4684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68360" y="1628640"/>
            <a:ext cx="24559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Quantum Mechanical Model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7850160" cy="4753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7850160" cy="6335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71640" y="241200"/>
            <a:ext cx="7921440" cy="6356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2.3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8497800" cy="4848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6 on P. 38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877080" y="393372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Arial Black"/>
              </a:rPr>
              <a:t>Review Ques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848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6 on P. 40 - 41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732720" y="378936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6222960" cy="640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2924280"/>
            <a:ext cx="2340000" cy="1833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Discovery of the Electron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4405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eph John Thomson investigated cathode rays from 1884 to 1919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 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‘Can the negative charge be separated from the cathode rays by means of magnetism?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omson concluded that the negative charge was inseparable from the rays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 2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‘Can the rays be deflected by an electric field?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omson found that the rays did bend under the influence of an electric field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 3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‘Can charge-to-mass ratio of the cathode rays measure how much they were being deflected by a magnetic field and how much energy they carried?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e found that the charge to mass ratio was over a thousand times higher than that of a proton, suggesting either that the particles were very light or very highly charged.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164360" y="836640"/>
            <a:ext cx="1754280" cy="201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1871640" cy="1798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003640" y="3141720"/>
            <a:ext cx="3924360" cy="1181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003640" y="4437000"/>
            <a:ext cx="1905120" cy="1505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7020000" y="4508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40720" y="27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s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alton was wrong!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76520"/>
            <a:ext cx="4967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 deduced that the particles that made up the cathode rays were negatively charg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 concluded that atoms consist of a heavy part with a positive charge and a negative ‘corpuscles’ (Later called electrons) part held together by electrostatic attractio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known as the ‘plum pudding’ mod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therefore must have a neutral char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35640" y="1844640"/>
            <a:ext cx="3530520" cy="3530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227640" y="5300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Alpha-particle Scattering Experiment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676520"/>
            <a:ext cx="4405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nest Rutherford and Hans Geiger investigated radiation travelling through or being blocked by varying thickness of material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diation consisted of alpha-particles – atoms of Helium that have lost their electrons and hence are positively charged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xperiment surprisingly showed that some of the radiation reflected back through a thin sheet of gold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therford concluded that a concentrated point in the atom, called the nucleus, must have caused the reflection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lso concluded that most of the atom is made up of empty space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74072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932360" y="1700280"/>
            <a:ext cx="381636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utherford’s Experi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7415280" cy="2376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3640" y="3789360"/>
            <a:ext cx="57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micro.magnet.fsu.edu/electromag/java/rutherford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741672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Rutherford’s Nuclear Model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76520"/>
            <a:ext cx="433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ly, Rutherford deduced that the positive charge had to be concentrated in a sphere less than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diamet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also concluded that the electrons move around the nucleus in random orbit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nuclear model is shown on the righ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672000" cy="4319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2.1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2 on P. 23 &amp; 24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659640" y="3789360"/>
            <a:ext cx="1841400" cy="2425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68360" y="3645000"/>
            <a:ext cx="604836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1:15:49Z</dcterms:created>
  <dc:creator>DE&amp;T User</dc:creator>
  <dc:description/>
  <dc:language>en-US</dc:language>
  <cp:lastModifiedBy>DE&amp;T User</cp:lastModifiedBy>
  <dcterms:modified xsi:type="dcterms:W3CDTF">2008-02-12T00:19:00Z</dcterms:modified>
  <cp:revision>35</cp:revision>
  <dc:subject/>
  <dc:title>The Structure of the Atom</dc:title>
</cp:coreProperties>
</file>